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116-FD53-426A-A02C-2253482E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380-D06F-4DD4-8E12-4A78CAA9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269-E8F8-47DF-A2B0-A4C0983B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261-56BB-4A56-867D-3C4279D2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929C-1145-49BB-B154-B769BE6D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159C-5163-45E1-A65C-AA565F73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6AB3-F891-4CB6-A237-56DB0BD1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ADF7-E09D-4D66-974C-773E0F56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E8E-6973-46F3-B5D2-7C8BC635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4CDD-8EB9-4A9C-801E-27B0D99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B521-D284-42F4-981C-73EA75D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F26-ADC5-4C72-93B0-CCA76A0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7BA7-ED1C-40F9-88B2-428AD52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8A00-89CA-4185-88FB-972A920D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41C-3DC2-4F3A-939E-50815CF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1C9C-4C34-4183-8947-C73B3979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6030-68F8-4D2D-BED2-061E0852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B80-193D-4EB3-8759-3117E77A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0C2-3F75-4614-85AC-65FE1A5A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F37-B83E-4022-BD0D-7DDC92EF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E13-CF2F-45E3-9F64-63499AB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972-E183-4B0A-ACB5-00C7BB0D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D85-AE0E-4929-A762-D571461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3CA-A610-452B-B954-5AB36CD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13A-5E6F-48A7-BFEC-D5FD3F4BC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4142-9CAB-43CB-81DD-0A160D2061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b7"/>
                </a:solidFill>
                <a:latin typeface="Allegro BT"/>
              </a:rPr>
              <a:t>ALTE ROMANE  REALISTE INTERBELICE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43040" y="4162320"/>
            <a:ext cx="6228000" cy="9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Proba de evaluare a competenţelor digitale</a:t>
            </a:r>
            <a:r>
              <a:rPr b="1" lang="en-US" sz="1000" spc="-1" strike="noStrike">
                <a:solidFill>
                  <a:srgbClr val="ffffb7"/>
                </a:solidFill>
                <a:latin typeface="Arial Black"/>
              </a:rPr>
              <a:t> – document de lucru</a:t>
            </a:r>
            <a:endParaRPr b="1" lang="en-US" sz="1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0</cp:lastModifiedBy>
  <dcterms:modified xsi:type="dcterms:W3CDTF">2012-04-12T08:32:1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